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494-2F69-4CEF-BF1B-77CAC7A8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C6D-8DFB-4350-A908-A666354F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479-98DE-4C70-B606-159844C5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4BE-1C7B-4E43-BFAB-F62E9DA4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E37A-CF7C-49BB-91B4-11D65F82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600-428F-4930-95B4-1033668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BF24-6C7E-495E-A545-E61CC7BF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87FD-B85D-4796-8381-6D9381B7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C9A-DB92-4281-8E60-38982FAA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B41B-FFBA-4B0B-8973-847A3276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6191-B9A8-46EF-B51A-674877B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93F-D425-43D6-96B7-8E79ABD1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7406-6F68-4C44-8F2C-0B2525E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CE94-1DDF-4BD3-A8DC-62316B7B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2B83-121F-4AF2-BD3F-53B9112E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1E6-F5C1-48CB-8D1A-5A0AF3B0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0F8D-FE85-4FB4-ABCA-F771302A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6C5-9FFC-45AA-90E0-A667FCC3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F81-95A9-417E-84C0-0AE5A547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A45-4E07-495B-9DDF-5FA2007B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170-009E-4126-956D-5768E8AD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C4F-5260-4133-B9BF-0F5E3763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6D7-A30A-48CC-BEC8-0768B04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6CA-822A-4D4E-95DF-49F0E4F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2BD9-65EC-4C8D-B332-2611E8BAADC2}" type="slidenum">
              <a:rPr b="0" lang="el-G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C931-84AA-4A12-80F8-DDE49FA3F1D4}" type="slidenum">
              <a:rPr b="0" lang="el-G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6237360"/>
            <a:ext cx="85914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15920"/>
            <a:ext cx="5410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HENS UNIVERSITY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CONOMICS &amp;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151" name=""/>
          <p:cNvSpPr/>
          <p:nvPr/>
        </p:nvSpPr>
        <p:spPr>
          <a:xfrm>
            <a:off x="1692360" y="1628640"/>
            <a:ext cx="583236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Tahoma"/>
              </a:rPr>
              <a:t>ΚΑΙΝΟΤΟΜΙΑ &amp; ΔΗΜΙΟΥΡΓΙΚΟΤΗΤ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330066"/>
                </a:solidFill>
                <a:latin typeface="Comic Sans MS"/>
              </a:rPr>
              <a:t>Εμπόδια και κινητήριες δυνάμεις στο επιχειρησιακό περιβάλλον</a:t>
            </a:r>
            <a:r>
              <a:rPr b="1" lang="el-G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4508640"/>
            <a:ext cx="488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Καθηγητής Δημήτρης Μπουραντά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Δ/ντή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ve MBA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κα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Sc. in Human Resources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ΙΚΟΝΟΜΙΚΟ ΠΑΝΕΠΙΣΤΗΜΙΟ ΑΘΗΝΩ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Συγγραφέας, Πρόεδρος της «Κοινωνίας Αξιώ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00000" y="115920"/>
            <a:ext cx="5410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HENS UNIVERSITY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CONOMICS &amp;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f5c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8000" y="18720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0" y="6539040"/>
            <a:ext cx="85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5280" y="1066680"/>
          <a:ext cx="6192720" cy="468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066680"/>
                    <a:ext cx="619272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156360" y="1427040"/>
            <a:ext cx="1065240" cy="2293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084720" y="4759200"/>
            <a:ext cx="1154160" cy="962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867280" y="54928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Χαρτοφάγ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440" y="3587760"/>
            <a:ext cx="71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9085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1320" y="41529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97120" y="43149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79280" y="653904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197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THINKING OUT OF TH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51544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Comic Sans MS"/>
              </a:rPr>
              <a:t>Διαφορετικά γυαλιά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2565360"/>
            <a:ext cx="360360" cy="35892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3357720"/>
            <a:ext cx="360360" cy="35856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4149720"/>
            <a:ext cx="360360" cy="35892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2565360"/>
            <a:ext cx="360360" cy="35892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2560" y="3357720"/>
            <a:ext cx="360360" cy="35856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2560" y="4149720"/>
            <a:ext cx="360360" cy="35892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2565360"/>
            <a:ext cx="360360" cy="35892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3357720"/>
            <a:ext cx="360360" cy="35856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4149720"/>
            <a:ext cx="360360" cy="358920"/>
          </a:xfrm>
          <a:prstGeom prst="flowChartConnector">
            <a:avLst/>
          </a:prstGeom>
          <a:solidFill>
            <a:srgbClr val="99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6546960"/>
            <a:ext cx="7848720" cy="0"/>
          </a:xfrm>
          <a:prstGeom prst="line">
            <a:avLst/>
          </a:prstGeom>
          <a:ln w="2844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270" name=""/>
          <p:cNvSpPr/>
          <p:nvPr/>
        </p:nvSpPr>
        <p:spPr>
          <a:xfrm>
            <a:off x="900000" y="115920"/>
            <a:ext cx="5410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HENS UNIVERSITY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CONOMICS &amp;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f5c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26920" y="28728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ΟΙΚΟΝΟΜΙΚΟ ΠΑΝΕΠΙΣΤΗΜΙΟ ΑΘΗΝΩ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275" name=""/>
          <p:cNvSpPr/>
          <p:nvPr/>
        </p:nvSpPr>
        <p:spPr>
          <a:xfrm>
            <a:off x="12600" y="638172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4000" y="1989000"/>
            <a:ext cx="360360" cy="35892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3141720"/>
            <a:ext cx="360360" cy="35856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4000" y="4292640"/>
            <a:ext cx="360360" cy="35856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2133720"/>
            <a:ext cx="360360" cy="35856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3143160"/>
            <a:ext cx="360360" cy="35892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4294080"/>
            <a:ext cx="360360" cy="35892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48000" y="1989000"/>
            <a:ext cx="360360" cy="35892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3286080"/>
            <a:ext cx="360360" cy="35892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4292640"/>
            <a:ext cx="360360" cy="358560"/>
          </a:xfrm>
          <a:prstGeom prst="flowChartConnector">
            <a:avLst/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123640" y="4508640"/>
            <a:ext cx="4824360" cy="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3419640" y="2060640"/>
            <a:ext cx="3528720" cy="244800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48360" y="1268280"/>
            <a:ext cx="0" cy="324036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24000" y="1267920"/>
            <a:ext cx="4824360" cy="3240360"/>
          </a:xfrm>
          <a:prstGeom prst="line">
            <a:avLst/>
          </a:prstGeom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26920" y="28728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ΟΙΚΟΝΟΜΙΚΟ ΠΑΝΕΠΙΣΤΗΜΙΟ ΑΘΗΝΩ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292" name=""/>
          <p:cNvSpPr/>
          <p:nvPr/>
        </p:nvSpPr>
        <p:spPr>
          <a:xfrm>
            <a:off x="12600" y="638172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01800" y="1700280"/>
            <a:ext cx="698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103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800000"/>
                </a:solidFill>
                <a:latin typeface="Verdana"/>
              </a:rPr>
              <a:t>ΑΤΟΜ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920960"/>
            <a:ext cx="72723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ημιουργικότητα-τεχ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36360" y="6467400"/>
            <a:ext cx="85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330066"/>
                </a:solidFill>
                <a:latin typeface="Arial"/>
                <a:ea typeface="Arial"/>
              </a:rPr>
              <a:t>Καθηγητής ΔΗΜΗΤΡΗΣ ΜΠΟΥΡΑΝΤΑΣ, Δ/ντής </a:t>
            </a:r>
            <a:r>
              <a:rPr b="1" lang="en-US" sz="1100" spc="-1" strike="noStrike">
                <a:solidFill>
                  <a:srgbClr val="330066"/>
                </a:solidFill>
                <a:latin typeface="Arial"/>
                <a:ea typeface="Arial"/>
              </a:rPr>
              <a:t>Executive MBA &amp; M.sc. in Human Resource Management</a:t>
            </a:r>
            <a:r>
              <a:rPr b="1" lang="en-US" sz="1200" spc="-1" strike="noStrike">
                <a:solidFill>
                  <a:srgbClr val="330066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20" y="6453360"/>
            <a:ext cx="6985080" cy="0"/>
          </a:xfrm>
          <a:prstGeom prst="line">
            <a:avLst/>
          </a:prstGeom>
          <a:ln w="2844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052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ATHENS UNIVERSITY O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ECONOMICS &amp;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EXECUTIV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M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00120" y="11592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476360" y="164952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genius is one hundred percent inspiration and ninety nine percent efforts”</a:t>
            </a:r>
            <a:r>
              <a:rPr b="1" i="1" lang="el-GR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Edis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36360" y="6467400"/>
            <a:ext cx="85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330066"/>
                </a:solidFill>
                <a:latin typeface="Arial"/>
                <a:ea typeface="Arial"/>
              </a:rPr>
              <a:t>Καθηγητής ΔΗΜΗΤΡΗΣ ΜΠΟΥΡΑΝΤΑΣ, Δ/ντής </a:t>
            </a:r>
            <a:r>
              <a:rPr b="1" lang="en-US" sz="1100" spc="-1" strike="noStrike">
                <a:solidFill>
                  <a:srgbClr val="330066"/>
                </a:solidFill>
                <a:latin typeface="Arial"/>
                <a:ea typeface="Arial"/>
              </a:rPr>
              <a:t>Executive MBA &amp; M.sc. in Human Resource Management</a:t>
            </a:r>
            <a:r>
              <a:rPr b="1" lang="en-US" sz="1200" spc="-1" strike="noStrike">
                <a:solidFill>
                  <a:srgbClr val="330066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0" y="6453360"/>
            <a:ext cx="6985080" cy="0"/>
          </a:xfrm>
          <a:prstGeom prst="line">
            <a:avLst/>
          </a:prstGeom>
          <a:ln w="2844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052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ATHENS UNIVERSITY O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ECONOMICS &amp;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EXECUTIV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M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0120" y="11592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476360" y="155736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genius is one hundred percent inspiration and ninety nine percent efforts”</a:t>
            </a:r>
            <a:r>
              <a:rPr b="1" i="1" lang="el-GR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Edis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76360" y="3576600"/>
            <a:ext cx="698328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he smart person figures out the new out of the hold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Sophoc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-36360" y="6467400"/>
            <a:ext cx="85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330066"/>
                </a:solidFill>
                <a:latin typeface="Arial"/>
                <a:ea typeface="Arial"/>
              </a:rPr>
              <a:t>Καθηγητής ΔΗΜΗΤΡΗΣ ΜΠΟΥΡΑΝΤΑΣ, Δ/ντής </a:t>
            </a:r>
            <a:r>
              <a:rPr b="1" lang="en-US" sz="1100" spc="-1" strike="noStrike">
                <a:solidFill>
                  <a:srgbClr val="330066"/>
                </a:solidFill>
                <a:latin typeface="Arial"/>
                <a:ea typeface="Arial"/>
              </a:rPr>
              <a:t>Executive MBA &amp; M.sc. in Human Resource Management</a:t>
            </a:r>
            <a:r>
              <a:rPr b="1" lang="en-US" sz="1200" spc="-1" strike="noStrike">
                <a:solidFill>
                  <a:srgbClr val="330066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920" y="6453360"/>
            <a:ext cx="6985080" cy="0"/>
          </a:xfrm>
          <a:prstGeom prst="line">
            <a:avLst/>
          </a:prstGeom>
          <a:ln w="2844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052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ATHENS UNIVERSITY O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ECONOMICS &amp;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EXECUTIV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M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0120" y="11592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76360" y="155736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genius is one hundred percent inspiration and ninety nine percent efforts”</a:t>
            </a:r>
            <a:r>
              <a:rPr b="1" i="1" lang="el-GR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Edis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76360" y="3141720"/>
            <a:ext cx="698328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he smart person figures out the new out of the hold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Sophoc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76360" y="448164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ne will never be able to discover new oceans unless he is willing to lose sight of the shore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Pla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052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ATHENS UNIVERSITY O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ECONOMICS &amp;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EXECUTIV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M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0120" y="11592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476360" y="641520"/>
            <a:ext cx="6983280" cy="16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genius is one hundred percent inspiration and ninety nine percent efforts”</a:t>
            </a:r>
            <a:r>
              <a:rPr b="1" i="1" lang="el-GR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Edis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9440" y="2394000"/>
            <a:ext cx="698328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he smart person figures out the new out of the hold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Sophoc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350028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ne will never be able to discover new oceans unless he is willing to lose sight of the shore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Pla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49440" y="501336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Intelligence is the spouse, imagination is the mistress and memory, the servant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Victor Hug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26920" y="28728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ΟΙΚΟΝΟΜΙΚΟ ΠΑΝΕΠΙΣΤΗΜΙΟ ΑΘΗΝΩ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323" name=""/>
          <p:cNvSpPr/>
          <p:nvPr/>
        </p:nvSpPr>
        <p:spPr>
          <a:xfrm>
            <a:off x="12600" y="638172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01800" y="1700280"/>
            <a:ext cx="698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103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800000"/>
                </a:solidFill>
                <a:latin typeface="Verdana"/>
              </a:rPr>
              <a:t>ΟΡΓΑΝΩΣΙΑΚΟΙ ΠΑΡΑΓΟΝΤ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1700280"/>
            <a:ext cx="72723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τρατηγικ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ροτεραιότη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ουλτούρα: «το καλό δεν είναι ποτέ αρκετό», «Σκέψου το ασύλληπτο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Φοντενεμπλ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πιβράβευση «λαθών»-αιρετ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ειραματισμός – έρευ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ό κάτω προς τα πάνω επικοινων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Ψηλά ο πήχ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ιαφορετικότητα-συνέργε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Ηγεσία – αίσθηση «ιδιοκτησίας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826920" y="28728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ΟΙΚΟΝΟΜΙΚΟ ΠΑΝΕΠΙΣΤΗΜΙΟ ΑΘΗΝΩ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330" name=""/>
          <p:cNvSpPr/>
          <p:nvPr/>
        </p:nvSpPr>
        <p:spPr>
          <a:xfrm>
            <a:off x="12600" y="638172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01800" y="1700280"/>
            <a:ext cx="698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103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800000"/>
                </a:solidFill>
                <a:latin typeface="Verdana"/>
              </a:rPr>
              <a:t>ΑΤΟΜ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00000" y="1920960"/>
            <a:ext cx="727236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ημιουργικότητα-τεχν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Θέληση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t) –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όραμ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ό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πιμον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ουράγιο – τόλ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ισιοδοξία - ελπίδ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0000" y="115920"/>
            <a:ext cx="5410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HENS UNIVERSITY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CONOMICS &amp;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f5c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156" name=""/>
          <p:cNvSpPr/>
          <p:nvPr/>
        </p:nvSpPr>
        <p:spPr>
          <a:xfrm>
            <a:off x="0" y="6308640"/>
            <a:ext cx="85914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2133720"/>
            <a:ext cx="4319640" cy="3168360"/>
          </a:xfrm>
          <a:prstGeom prst="rect">
            <a:avLst/>
          </a:prstGeom>
          <a:solidFill>
            <a:srgbClr val="ffffff">
              <a:alpha val="29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2133720"/>
            <a:ext cx="0" cy="31683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371808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693720"/>
            <a:ext cx="748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800000"/>
                </a:solidFill>
                <a:latin typeface="Verdana"/>
              </a:rPr>
              <a:t>ΣΗΜΑΝΤΙΚΟΤΗΤΑ ΑΛΛΑΓΩ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24922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παναπροσδιορισμό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60360" y="59421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ΕΣΤΙΑΣΗ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34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Προδραστικέ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080" y="432756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Αντιδραστικέ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24000" y="162864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Οριακέ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7002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Ριζικέ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393372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ντιμετώπιση προβλημάτω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249228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υνεχής βελτίωσ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39337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παναφορά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115920"/>
            <a:ext cx="5410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HENS UNIVERSITY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CONOMICS &amp;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f5c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173" name=""/>
          <p:cNvSpPr/>
          <p:nvPr/>
        </p:nvSpPr>
        <p:spPr>
          <a:xfrm>
            <a:off x="0" y="6308640"/>
            <a:ext cx="8591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2565360"/>
            <a:ext cx="4319640" cy="3168720"/>
          </a:xfrm>
          <a:prstGeom prst="rect">
            <a:avLst/>
          </a:prstGeom>
          <a:solidFill>
            <a:srgbClr val="ffffff">
              <a:alpha val="29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565360"/>
            <a:ext cx="0" cy="3168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414972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49360"/>
            <a:ext cx="748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800000"/>
                </a:solidFill>
                <a:latin typeface="Verdana"/>
              </a:rPr>
              <a:t>ΣΤΡΑΤΗΓΙΚΗ ΑΝΑΠΤΥΞΗ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292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ατήρηση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292428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νάπτυξη μέσω προϊόντ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2360" y="3854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ΕΛΑ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162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ΡΟΪΟΝΤΑ / ΥΠΗΡΕΣΙΕ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565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Υφιστάμενο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46879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Νέο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Υφιστάμεν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Νέ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365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νάπτυξη μέσω νέων πελατώ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4560" y="46465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αφοροποίη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00000" y="115920"/>
            <a:ext cx="5410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THENS UNIVERSITY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CONOMICS &amp;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f5c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191" name=""/>
          <p:cNvSpPr/>
          <p:nvPr/>
        </p:nvSpPr>
        <p:spPr>
          <a:xfrm>
            <a:off x="0" y="6308640"/>
            <a:ext cx="8591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2565360"/>
            <a:ext cx="4319640" cy="3168720"/>
          </a:xfrm>
          <a:prstGeom prst="rect">
            <a:avLst/>
          </a:prstGeom>
          <a:solidFill>
            <a:srgbClr val="ffffff">
              <a:alpha val="29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6000" y="2565360"/>
            <a:ext cx="0" cy="3168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414972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693720"/>
            <a:ext cx="748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800000"/>
                </a:solidFill>
                <a:latin typeface="Verdana"/>
              </a:rPr>
              <a:t>ΣΤΡΑΤΗΓΙΚΗ ΑΝΤΑΓΩΝΙΣΜΟ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2924280"/>
            <a:ext cx="201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ΗΓΕΣΙ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ΟΣΤ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3789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ΜΗΜΑ ΑΓΟΡ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60360" y="162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ΝΤΑΓΩΝΙΣΤΙΚΑ ΠΛΕΟΝΕΚΤΗΜΑΤ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2781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Ευρ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6879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Στεν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21337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Διαφοροποίησ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cc00"/>
                </a:solidFill>
                <a:latin typeface="Arial"/>
              </a:rPr>
              <a:t>Κόστο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436572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στίαση με διαφοροποίησ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3068640"/>
            <a:ext cx="2087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</a:rPr>
              <a:t>ΔΙΑΦΟΡΟΠΟΙΗΣΗ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436572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στίαση με χαμηλό κόστο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28728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ΟΙΚΟΝΟΜΙΚΟ ΠΑΝΕΠΙΣΤΗΜΙΟ ΑΘΗΝΩ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209" name=""/>
          <p:cNvSpPr/>
          <p:nvPr/>
        </p:nvSpPr>
        <p:spPr>
          <a:xfrm>
            <a:off x="12600" y="638172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01800" y="1700280"/>
            <a:ext cx="698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03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800000"/>
                </a:solidFill>
                <a:latin typeface="Verdana"/>
              </a:rPr>
              <a:t>ΚΑΙΝΟΤΟΜΙΑ ΠΑΝΤ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1704960"/>
            <a:ext cx="727236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εχνολογί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οϊόν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έθοδοι – Συστή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ργάνω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ουλτούρ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ίκτυα διανομ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οβολή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-36360" y="6467400"/>
            <a:ext cx="85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330066"/>
                </a:solidFill>
                <a:latin typeface="Arial"/>
                <a:ea typeface="Arial"/>
              </a:rPr>
              <a:t>Καθηγητής ΔΗΜΗΤΡΗΣ ΜΠΟΥΡΑΝΤΑΣ, Δ/ντής </a:t>
            </a:r>
            <a:r>
              <a:rPr b="1" lang="en-US" sz="1100" spc="-1" strike="noStrike">
                <a:solidFill>
                  <a:srgbClr val="330066"/>
                </a:solidFill>
                <a:latin typeface="Arial"/>
                <a:ea typeface="Arial"/>
              </a:rPr>
              <a:t>Executive MBA &amp; M.sc. in Human Resource Management</a:t>
            </a:r>
            <a:r>
              <a:rPr b="1" lang="en-US" sz="1200" spc="-1" strike="noStrike">
                <a:solidFill>
                  <a:srgbClr val="330066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20" y="6453360"/>
            <a:ext cx="6985080" cy="0"/>
          </a:xfrm>
          <a:prstGeom prst="line">
            <a:avLst/>
          </a:prstGeom>
          <a:ln w="2844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052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ATHENS UNIVERSITY O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ECONOMICS &amp;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EXECUTIV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M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0120" y="11592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58920" y="184464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society based on production is only productive not creative”</a:t>
            </a:r>
            <a:r>
              <a:rPr b="1" i="1" lang="el-GR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A. Cam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36360" y="6467400"/>
            <a:ext cx="85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330066"/>
                </a:solidFill>
                <a:latin typeface="Arial"/>
                <a:ea typeface="Arial"/>
              </a:rPr>
              <a:t>Καθηγητής ΔΗΜΗΤΡΗΣ ΜΠΟΥΡΑΝΤΑΣ, Δ/ντής </a:t>
            </a:r>
            <a:r>
              <a:rPr b="1" lang="en-US" sz="1100" spc="-1" strike="noStrike">
                <a:solidFill>
                  <a:srgbClr val="330066"/>
                </a:solidFill>
                <a:latin typeface="Arial"/>
                <a:ea typeface="Arial"/>
              </a:rPr>
              <a:t>Executive MBA &amp; M.sc. in Human Resource Management</a:t>
            </a:r>
            <a:r>
              <a:rPr b="1" lang="en-US" sz="1200" spc="-1" strike="noStrike">
                <a:solidFill>
                  <a:srgbClr val="330066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0" y="6453360"/>
            <a:ext cx="6985080" cy="0"/>
          </a:xfrm>
          <a:prstGeom prst="line">
            <a:avLst/>
          </a:prstGeom>
          <a:ln w="2844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052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ATHENS UNIVERSITY O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0066"/>
                </a:solidFill>
                <a:latin typeface="Arial"/>
                <a:ea typeface="Arial"/>
              </a:rPr>
              <a:t>ECONOMICS &amp;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EXECUTIV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0000"/>
                </a:solidFill>
                <a:latin typeface="Verdana"/>
                <a:ea typeface="Arial"/>
              </a:rPr>
              <a:t>M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00120" y="11592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476360" y="1557360"/>
            <a:ext cx="6983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society based on production is only productive not creative”</a:t>
            </a:r>
            <a:r>
              <a:rPr b="1" i="1" lang="el-GR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A. Cam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6360" y="3576600"/>
            <a:ext cx="69832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on’t take the path that takes you where it is supposed to, but instead, walk through unexplored grounds and leave your own mark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a0000"/>
                </a:solidFill>
                <a:latin typeface="Times New Roman"/>
                <a:ea typeface="Arial"/>
              </a:rPr>
              <a:t>Emer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26920" y="28728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ΟΙΚΟΝΟΜΙΚΟ ΠΑΝΕΠΙΣΤΗΜΙΟ ΑΘΗΝΩ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227" name=""/>
          <p:cNvSpPr/>
          <p:nvPr/>
        </p:nvSpPr>
        <p:spPr>
          <a:xfrm>
            <a:off x="12600" y="638172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01800" y="1700280"/>
            <a:ext cx="698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11095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800000"/>
                </a:solidFill>
                <a:latin typeface="Verdana"/>
              </a:rPr>
              <a:t>ΚΑΙΝΟΤΟΜΙ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2133720"/>
            <a:ext cx="136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Άτομο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4076640"/>
            <a:ext cx="27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Περιβάλλον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22050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Οργανισμός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2492280"/>
            <a:ext cx="3529080" cy="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2708280"/>
            <a:ext cx="1800360" cy="144000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364000" y="2637000"/>
            <a:ext cx="1656000" cy="1728720"/>
          </a:xfrm>
          <a:prstGeom prst="line">
            <a:avLst/>
          </a:prstGeom>
          <a:ln cap="sq" w="28440">
            <a:solidFill>
              <a:srgbClr val="8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26920" y="28728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ΟΙΚΟΝΟΜΙΚΟ ΠΑΝΕΠΙΣΤΗΜΙΟ ΑΘΗΝΩ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00000"/>
                </a:solidFill>
                <a:latin typeface="Verdana"/>
              </a:rPr>
              <a:t>EXECUTIVE M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549360"/>
            <a:ext cx="6553440" cy="0"/>
          </a:xfrm>
          <a:prstGeom prst="line">
            <a:avLst/>
          </a:prstGeom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9372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</p:pic>
      <p:sp>
        <p:nvSpPr>
          <p:cNvPr id="239" name=""/>
          <p:cNvSpPr/>
          <p:nvPr/>
        </p:nvSpPr>
        <p:spPr>
          <a:xfrm>
            <a:off x="12600" y="6381720"/>
            <a:ext cx="85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ahoma"/>
              </a:rPr>
              <a:t>Καθηγητής ΔΗΜΗΤΡΗΣ ΜΠΟΥΡΑΝΤΑΣ, Δ/ντής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ecutive MBA &amp; M.sc. in Human Resourc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1800" y="1700280"/>
            <a:ext cx="698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103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800000"/>
                </a:solidFill>
                <a:latin typeface="Verdana"/>
              </a:rPr>
              <a:t>ΤΙ ΚΑΤΑΣΤΡΕΦΕΙ ΤΗ ΚΑΙΝΟΤΟΜΙ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1704960"/>
            <a:ext cx="727236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λαζονεία, εφησυχασμός, αυταρέσκ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νήθεια, αδράνε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όλεμ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for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νταγές, στερεότυπ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ράση αντί για σκέ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ιωπ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57:46Z</dcterms:created>
  <dc:creator>katerina</dc:creator>
  <dc:description/>
  <cp:keywords/>
  <dc:language>en-US</dc:language>
  <cp:lastModifiedBy>katerina</cp:lastModifiedBy>
  <dcterms:modified xsi:type="dcterms:W3CDTF">2013-05-14T13:36:37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3321033</vt:lpwstr>
  </property>
</Properties>
</file>